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B8B-F2C7-4C7E-B270-70C2C4CB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ACF-26AE-4F38-9A7A-435EC765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D8C30-8265-4525-A587-BDC3463B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0C794-240A-4C0B-AC6E-C7D92A0B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DA7D9-3013-444E-BA69-C97B761E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B6B1A-C91C-45EB-A1CB-512C195C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CDD96-7766-4746-8F8E-528D7DC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E2175-A3EC-4B6D-8B5A-6A14F91D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AF83-63F6-4BAB-92CB-533B6700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4587F-A302-49B4-A6D7-BE4D05F7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6F210-39DC-4AEA-BB63-80942660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8F971-66B3-4D88-8F58-C85AA40C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0FA-06DF-4BCA-826E-52D86E38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24CC2-6A97-4FBD-82FE-B59BA972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78016-1AAD-488C-994D-F287F353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A439B-1FA5-406A-B4AA-55FBF2DA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F0537-1C93-485E-A11D-0C361488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12CF0-CE9C-4D7A-BA90-F4A5EAF4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F4C8E-1036-4BB1-B159-5B8A7015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D2F96-004E-4B8D-A28E-3823A30B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608B3-D4F3-4FB1-B5F2-2B999037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94F4D-ADCE-43E6-A2F7-F413C517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AAD2D-AADF-42AF-953D-94AC6139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257-B0D7-4304-AC54-0450BE9C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6AD9B-8D33-4477-B904-55C4840A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FEB59-8E23-40F2-83B0-E316A953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CB4AB-7FAC-47C7-8ACA-0BBF8C83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97AAA-A152-43C6-9EAF-6075BC8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D6BA7-AD7D-4403-9DAE-1D046238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1A3D4-2A05-4ADB-AF3F-3BB7B325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5E113-4416-4599-92F8-7E0C592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12B85-F2E8-410D-A9E6-384CB84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7693A-75A4-454A-ADE1-F37B61E9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E4A0D-C691-4516-BB83-8A84F33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F242-3A5F-4410-B4C8-8B7E386F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F7CC5-5FE4-44B8-88E5-7F702B43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4680A-8A4E-4A9E-BA10-5A0D7FFE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A597A-7592-4BE5-A37E-4C77AE02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5A4C8-DE55-4292-8EEE-14F9BFA5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CC57B-2725-4152-BB54-1077BA84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799C1-B61E-4C4A-9EB0-B7F66AB0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44F4D-38E8-4FBC-9358-200CA495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65533-C54E-47FB-8046-0962C2E0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63351-111E-42BC-81DF-29729647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8F2A7-6A69-48C3-9788-45D843EC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6989-83D2-41AC-B746-9F2718FA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58DC1-3E5B-4AB8-941D-B9D7C57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61AFA-7D0B-4061-AC9E-BA4C3D9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9FFCA-73DE-4F2C-9B43-FF9C92BF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5FB26-0105-4F09-89D2-8468F54A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EF535-AF3E-48A5-90E2-E38807D2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D8966-DE2E-44C6-8477-9F2D36CB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95BEE-9D9D-40EC-93F2-7CB3DB77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8018A-3F5F-404A-A03C-C5AAB535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91BA6-1135-46E8-B50E-A8233291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02CD4-8114-4D09-8E63-DA3BD8C3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837A-4BCC-4451-ABA0-6F3915A6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05A7C-A1CB-4AE5-B5DA-98B48FF5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9DCD6-4446-4763-AC8D-27A8E9F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D4C13-6C5A-4B8F-AD74-A5408A89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F9D1C-58E4-4C94-BD31-04CE389F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D1C41-4EFB-4ADF-9F7F-D76D75EA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AE2A6-6EA0-4EF7-9244-0141EE88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12CC5-521F-4903-A9E2-B8166D3B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4D5EC-BA08-4FF9-9CCC-9B313AA5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5AC00-EB3C-42F6-A74B-2030DBBC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16F52-D27F-4A27-A90B-2113CC7B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3824-5F7D-4F91-8DF5-E7AE1350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81274-D10A-448F-B634-31066639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1317B-7F6D-4214-8D5B-8F1923C8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F232F-E94C-4662-B92E-12F814EF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46450-54A8-4E96-B57B-D1A7EAB1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7C5A7-4F3F-4E9D-8203-1F31038C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50407-5C6E-4570-8A20-55A8128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30947-D5F2-4CF2-89F5-011F7D7B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D6E79-4FBF-469F-B101-16BBFCB8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D74EC-F95A-4952-87AE-162B0F62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B9AE-011D-471A-B026-4D7F0F1B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6BBC-7EF1-4DC0-B491-3CCB97CB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60D8-1545-4A19-82A5-28434784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4AD-3602-4A90-8C67-D69FE350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5C07-27E9-4177-B522-16E3E6D0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BAAC-48E2-4529-8D9A-D3460539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A0A7-92A4-4B65-9A93-9B6B917C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3D79-AF0A-486B-B693-0CDA5548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3445-3A94-4648-B009-76D788D4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3423-1CC1-4D5C-B7B8-67DC0F37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B76C-5BD3-4EA1-915D-97249D61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BE7BB-486B-48A0-BBFB-C7728204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22C8-EB7D-4979-AA4F-FFC0F0F7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FDCE4-1216-4F05-BB7C-E32E70F4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F79-7778-46BA-8D65-455222AA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BD129-DD99-4ACE-84F1-708AAB0A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07EF-B970-461C-BCF5-7EA77C7D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A6DA-FD83-4384-84B2-B0A43B15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1C64-487D-440B-8560-D4180A2E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4178-0A0E-418E-8F1E-476481E2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7325-C526-4F1C-918A-D4DADDD3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A51E-8279-4933-864C-47C99B50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B94A1-DCBE-4D6C-BDE0-76667266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700E4-CF2C-4D10-8F29-38A95103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C5B19-3384-4645-AEFB-758EC3FF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FC4-28F0-4961-B5D7-F91FDE17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E285F-8906-4A4B-BE95-746C3FA5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8E144-2653-457C-A2E2-AB190EDC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1CBDD-79B9-4ADB-A302-7E45D0C7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98888-9036-4E57-894A-E4AABD14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D0673-AD8F-402B-92C4-927953CD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BEE60-D606-430D-AE36-A062C8AB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F4124-E3AC-455C-8864-80A79305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481CD-2211-4BEF-AE8B-F9CFF5C8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F1BAC-C273-425D-83BB-D3418A72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881ED-22F8-4E05-A7F2-7E579525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8BF-CDF4-4A1F-9F9B-77690E5B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9D90F-F4D3-4870-9A07-5D27A675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E9387-6745-4311-B1B1-03EBD2E1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34E5D-17C6-4D33-83B1-D7D7EA0C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4AD07-C3B4-4883-BBBA-ECA430D6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505AF-8A1C-4A04-95A2-6EFBBF84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09851-4811-4AE1-A27A-E91E7A9E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49A55-FAEA-4BF8-9470-465B3297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E125A-192F-4851-BD94-009FC62A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6B489-4AA1-443E-8E23-783C5A8A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834EA-9CCE-432B-B9B2-04BA67FE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2FE-EAAE-4782-8274-ADED030D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D5A1B-AA5B-4AA9-A3A3-1FE051A5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1A6E1-D343-4CE2-9E31-4293657B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4B298-DC70-44CE-9593-DA3F1406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528F-9469-4D0E-BEAF-2B4B037B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1EDEA-4D0A-4898-A20A-5EEBB3A3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2998-8F03-41BA-B1B8-2D684AA5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8BAC8-437D-4528-AAE8-0A97383F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03D8E-DA4C-48BA-8192-DFE18F9B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EDCB3-CCD4-48EC-8934-7764B17E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617C5-9FE0-4184-A0B6-4436C8C2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2FC-9625-40C2-BE44-C0D44073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4EC2D-D2B7-4AA1-BC4F-58584EBB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AAEE8-9CF8-42F9-858E-5399C67B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4C85C-A835-46DF-AE19-DC2CA065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D18D1-27F2-4517-AC62-F8DF4A0E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4C722-ED91-4366-8F08-9787C5DF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8E06E-0523-4000-82C4-7EEBFA10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4A27E-EDC7-4F5C-8E9F-DC8DB518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C8834-4360-4323-B87E-F746CF44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EC590-CD02-4DB1-8059-450B1555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508F2-EB7E-41CA-904E-CB92E64A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3A6-94C1-43AA-8D2A-4E6A7197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27EB6-6D7E-49C5-85DE-A45E4B27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3339D-C0FE-449C-8E62-2893BFF3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42F5F-1F44-4C68-8BA7-C37E26A9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2BF49-A189-48F2-9A0A-2A520BB6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18432-3B1C-45A7-9974-3A249C14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3E26F-1BBA-425D-B1EA-DB1A223D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5DEAA-6D75-43A6-B8DE-9332E47B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756F7-ED6D-4518-94CF-5C5C593F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6483E-186F-4A50-951B-A3263DF1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E480E-A871-4A6C-8239-D7DE4593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458-9DF9-4D72-B3E7-8399C7E1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9579F-17CB-494B-8249-65C6511D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4A77C-1407-48D1-A721-FA2DB4CF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CD102-E206-4A08-842F-72EA6E6D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2CECF-12D6-44B1-9DB5-401DC24B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34556-754E-4AB4-90B4-054C3337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B7A96-AF19-4EA4-B7EA-D1D53612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307DB-AE90-40B6-85CE-3110A48E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E15F5-E506-47A5-8C0D-EAB55B05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0D431-B68A-4D1C-97DE-58D73B4F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650FF-27EA-43B0-9EA9-B770E632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8B1F-039B-47DD-BFDB-6344948D8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0788-A26C-40B4-A8B7-6398ACCF68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6F94-A80A-4E9D-8A31-9BE0741B9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6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B601-A856-4EBA-99BA-8A039634C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2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6523-8BFF-449D-A606-B4F09122C1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9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F036-355A-45A9-8398-0E0B65A17E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CF66-3B51-49B6-8DC8-986A38C57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19F8-A3CD-4D02-9C4E-86BFA2BF49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796D-0B5D-4844-AED1-D858A37799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49D7-C242-4472-BF05-175FF09135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F266-4623-4452-B08B-2301BEB6332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4E50-F5F9-47E2-A009-5365DEBC7F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516D-9BBF-4F6F-9611-65CB32C01A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1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2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3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5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41EA-D6C2-4700-ABBE-5CB1E6FB1D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Casa por Vany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ya 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 pati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patio. Es muy impresion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457200" y="2111400"/>
            <a:ext cx="4495680" cy="4232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Casa peque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Tahoma"/>
              </a:rPr>
              <a:t>ῆ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coberti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 muy pe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y viej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>
            <a:lum bright="6000"/>
          </a:blip>
          <a:srcRect l="8768" t="15514" r="0" b="0"/>
          <a:stretch/>
        </p:blipFill>
        <p:spPr>
          <a:xfrm>
            <a:off x="4114800" y="2124000"/>
            <a:ext cx="5029200" cy="4734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s un B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ῆ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2"/>
          <a:stretch/>
        </p:blipFill>
        <p:spPr>
          <a:xfrm>
            <a:off x="456840" y="1981080"/>
            <a:ext cx="4041720" cy="411480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644720" y="198108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ῆ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muy fabulo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3"/>
          <a:stretch/>
        </p:blipFill>
        <p:spPr>
          <a:xfrm>
            <a:off x="838080" y="2928960"/>
            <a:ext cx="5181840" cy="3929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s una Coci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Es muy impresionat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s un garaj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garaje. Es muy bonit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6095880" cy="3940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 un dormitorio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 un dormitorio. Es muy modern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4419360" cy="3670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Es un jard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Es un jardin. Es muy grand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4648320" cy="3483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 un comedo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comedor. Es muy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304920" y="2266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sala. Es muy gr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1676520" y="1965240"/>
            <a:ext cx="6172200" cy="492120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1108080" cy="984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37:07Z</dcterms:created>
  <dc:creator>dsfg</dc:creator>
  <dc:description/>
  <dc:language>en-US</dc:language>
  <cp:lastModifiedBy>dsfg</cp:lastModifiedBy>
  <dcterms:modified xsi:type="dcterms:W3CDTF">2012-10-25T18:03:45Z</dcterms:modified>
  <cp:revision>7</cp:revision>
  <dc:subject/>
  <dc:title>La Casa por Vanya</dc:title>
</cp:coreProperties>
</file>